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92361"/>
        <c:axId val="68296093"/>
      </c:barChart>
      <c:catAx>
        <c:axId val="57492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96093"/>
        <c:crosses val="autoZero"/>
        <c:auto val="1"/>
        <c:lblAlgn val="ctr"/>
        <c:lblOffset val="100"/>
        <c:noMultiLvlLbl val="0"/>
      </c:catAx>
      <c:valAx>
        <c:axId val="68296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92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6BE-2F5E-46F8-8278-605F99E1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AAC-EB75-498D-8737-D6033451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288-7B4A-4566-99F2-4E8A93C6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DE4-32C8-4568-AB0E-3D4977FA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252-155D-4B54-BF59-A3495231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C67-F3D3-42F1-9B0F-D26CDBAC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7CF-CAB2-44A3-AEF9-7F481496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43A-8A9B-4237-ABA7-18E02C66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BE4-AE2A-4DE0-AFB5-FEBECF2A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52A-5DDA-4042-A44D-3E1BAABA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0B3-4D56-4EAD-B2D1-5CBF8335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3F14-416E-4E56-97F5-2CA9F462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BAAFA-8064-435B-90C2-231F6BCFED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