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880241"/>
        <c:axId val="90717136"/>
      </c:barChart>
      <c:catAx>
        <c:axId val="348802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17136"/>
        <c:crosses val="autoZero"/>
        <c:auto val="1"/>
        <c:lblAlgn val="ctr"/>
        <c:lblOffset val="100"/>
        <c:noMultiLvlLbl val="0"/>
      </c:catAx>
      <c:valAx>
        <c:axId val="907171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802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CC02-9A76-47C9-AD73-680C8891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242F-75F3-4C32-9A9B-F3B6650E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9ACB-6E2F-4DD3-AB92-593752E2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1410-8533-4F2F-A8C4-25438D77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C377-2BFC-4491-8967-5C2F2ED3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24C7-61D0-4A61-AB70-98CDDD71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56FE-18EC-42AF-8657-D5B1AB51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ECB7-8AEC-48CF-9CF2-CDFC45AE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C75B-860D-48E3-AAC5-5FDC340F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EE0B-5D4D-48F6-A108-D33D44F5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2828-3B3D-4DE7-8909-52F9B011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6354-EE2C-4C0A-A542-2A378FF6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FB05B-7195-4CE6-8605-00129BB92D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